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878-1A90-42B8-BCC4-D182DE44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2F3-A823-47E2-ACAB-F3917BC7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963-60CC-435A-BB69-3AF47846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4CD-C411-45D9-988F-EC7105B3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217-28DC-413E-A9BA-3547128F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290-78A0-44AE-A4EC-2739FA4A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B0B-01A7-452D-B0BB-9F720888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855-85CC-4A69-BE4A-214EFD28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BDA-5BB8-4125-B288-4CCB60BA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255-5C27-4A66-9DD5-2385693E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B3E-CB73-4DC0-BC03-ADE90195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0BA-160D-4154-8677-2B5E6E86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A362-67F6-4383-8CAB-6108A5275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57913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هكذا كان شكل مدينة القدس عندما زارها رسول الله صلى الله عليه وسلم في رحلة الإسراء والمعرا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676520"/>
            <a:ext cx="381240" cy="5331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838080"/>
            <a:ext cx="2590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المسجد الأقصى المبار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(فارغ من البناء ومهمل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828800"/>
            <a:ext cx="2743200" cy="1676520"/>
          </a:xfrm>
          <a:custGeom>
            <a:avLst/>
            <a:gdLst/>
            <a:ahLst/>
            <a:rect l="l" t="t" r="r" b="b"/>
            <a:pathLst>
              <a:path w="1728" h="1056">
                <a:moveTo>
                  <a:pt x="0" y="528"/>
                </a:moveTo>
                <a:lnTo>
                  <a:pt x="1104" y="0"/>
                </a:lnTo>
                <a:lnTo>
                  <a:pt x="1728" y="384"/>
                </a:lnTo>
                <a:lnTo>
                  <a:pt x="720" y="1056"/>
                </a:lnTo>
                <a:lnTo>
                  <a:pt x="0" y="528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381520" y="5181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548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otation%20of%20AQ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7696080" y="609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457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7695720" y="4495320"/>
            <a:ext cx="1219320" cy="438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8839080" y="4933800"/>
            <a:ext cx="76320" cy="13147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620064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990000"/>
                </a:solidFill>
                <a:latin typeface="Times New Roman"/>
              </a:rPr>
              <a:t>يفترض أن النبي عليه السلام دخل الأقصى المبارك من هذه الناحية ليلة الإسراء والمعرا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otation%20of%20AQ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7696080" y="609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457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029200" y="5181480"/>
            <a:ext cx="2286000" cy="990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6172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موقع مسجد البرا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مسجد%20البراق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2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59436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مسجد البراق، وداخله درج ينزل للأسفل، وفي الأسفل مكان حلقة يقال إنها مكان الحلقة التي ربط فيها النبي عليه السلام البراق ليلة الإسراء والمعرا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848720" y="2286000"/>
            <a:ext cx="761760" cy="380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16002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3300"/>
                </a:solidFill>
                <a:latin typeface="Times New Roman"/>
              </a:rPr>
              <a:t>الباب في هذه النا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629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4771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otation%20of%20AQ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7696080" y="609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457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809880"/>
            <a:ext cx="76212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124080" y="4495320"/>
            <a:ext cx="1676520" cy="1600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60958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3333cc"/>
                </a:solidFill>
                <a:latin typeface="Times New Roman"/>
              </a:rPr>
              <a:t>يفترض أن صلاة النبي عليه السلام بالأنبياء كانت في هذه المنطقة والله أعل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tation%20of%20AQ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7696080" y="609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457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362320" y="3747960"/>
            <a:ext cx="1676160" cy="747720"/>
            <a:chOff x="2362320" y="3747960"/>
            <a:chExt cx="1676160" cy="747720"/>
          </a:xfrm>
        </p:grpSpPr>
        <p:sp>
          <p:nvSpPr>
            <p:cNvPr id="75" name=""/>
            <p:cNvSpPr/>
            <p:nvPr/>
          </p:nvSpPr>
          <p:spPr>
            <a:xfrm>
              <a:off x="3200400" y="4038480"/>
              <a:ext cx="45720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57600" y="4267080"/>
              <a:ext cx="38088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2320" y="374796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Times New Roman"/>
                </a:rPr>
                <a:t>قبة المعرا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438280" y="2254320"/>
            <a:ext cx="2895840" cy="1098360"/>
            <a:chOff x="2438280" y="2254320"/>
            <a:chExt cx="2895840" cy="1098360"/>
          </a:xfrm>
        </p:grpSpPr>
        <p:sp>
          <p:nvSpPr>
            <p:cNvPr id="79" name=""/>
            <p:cNvSpPr/>
            <p:nvPr/>
          </p:nvSpPr>
          <p:spPr>
            <a:xfrm>
              <a:off x="3733920" y="2895480"/>
              <a:ext cx="38088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38280" y="2254320"/>
              <a:ext cx="2895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990000"/>
                  </a:solidFill>
                  <a:latin typeface="Times New Roman"/>
                </a:rPr>
                <a:t>الصخرة المشرفة داخل القبة، المكان الأرجح للمعرا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ساحة%20الضخرة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95680" y="1066680"/>
            <a:ext cx="3505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3300"/>
                </a:solidFill>
                <a:latin typeface="Times New Roman"/>
              </a:rPr>
              <a:t>قبة المعرا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قبة قديمة البناء، ولكن بناءها الحالي هو بناء أيوبي، تحتوي الآن على مكتب تابع للأوقاف الإسلام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أسوار%20القدس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467480" y="380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2960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47920"/>
            <a:ext cx="0" cy="838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533520"/>
            <a:ext cx="312444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Times New Roman"/>
              </a:rPr>
              <a:t>جـبـل الـمـكــبــ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3300"/>
                </a:solidFill>
                <a:latin typeface="Times New Roman"/>
              </a:rPr>
              <a:t>من هنا وصل عمر بن الخطاب للقد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866920" y="2209680"/>
            <a:ext cx="3812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باب الرحم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7884720" y="907920"/>
            <a:ext cx="1258920" cy="100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8640" y="3327480"/>
            <a:ext cx="2139840" cy="1071360"/>
          </a:xfrm>
          <a:custGeom>
            <a:avLst/>
            <a:gdLst/>
            <a:ahLst/>
            <a:rect l="l" t="t" r="r" b="b"/>
            <a:pathLst>
              <a:path w="1348" h="675">
                <a:moveTo>
                  <a:pt x="1348" y="0"/>
                </a:moveTo>
                <a:cubicBezTo>
                  <a:pt x="1332" y="22"/>
                  <a:pt x="1328" y="51"/>
                  <a:pt x="1311" y="73"/>
                </a:cubicBezTo>
                <a:cubicBezTo>
                  <a:pt x="1290" y="101"/>
                  <a:pt x="1262" y="122"/>
                  <a:pt x="1238" y="147"/>
                </a:cubicBezTo>
                <a:cubicBezTo>
                  <a:pt x="1204" y="181"/>
                  <a:pt x="1142" y="168"/>
                  <a:pt x="1103" y="196"/>
                </a:cubicBezTo>
                <a:cubicBezTo>
                  <a:pt x="1064" y="224"/>
                  <a:pt x="1039" y="272"/>
                  <a:pt x="1005" y="306"/>
                </a:cubicBezTo>
                <a:cubicBezTo>
                  <a:pt x="967" y="424"/>
                  <a:pt x="822" y="447"/>
                  <a:pt x="711" y="465"/>
                </a:cubicBezTo>
                <a:cubicBezTo>
                  <a:pt x="616" y="560"/>
                  <a:pt x="666" y="520"/>
                  <a:pt x="564" y="588"/>
                </a:cubicBezTo>
                <a:cubicBezTo>
                  <a:pt x="542" y="602"/>
                  <a:pt x="490" y="612"/>
                  <a:pt x="490" y="612"/>
                </a:cubicBezTo>
                <a:cubicBezTo>
                  <a:pt x="453" y="637"/>
                  <a:pt x="417" y="649"/>
                  <a:pt x="380" y="674"/>
                </a:cubicBezTo>
                <a:cubicBezTo>
                  <a:pt x="364" y="670"/>
                  <a:pt x="348" y="661"/>
                  <a:pt x="331" y="661"/>
                </a:cubicBezTo>
                <a:cubicBezTo>
                  <a:pt x="318" y="661"/>
                  <a:pt x="307" y="675"/>
                  <a:pt x="294" y="674"/>
                </a:cubicBezTo>
                <a:cubicBezTo>
                  <a:pt x="268" y="671"/>
                  <a:pt x="245" y="657"/>
                  <a:pt x="220" y="649"/>
                </a:cubicBezTo>
                <a:cubicBezTo>
                  <a:pt x="208" y="645"/>
                  <a:pt x="184" y="637"/>
                  <a:pt x="184" y="637"/>
                </a:cubicBezTo>
                <a:cubicBezTo>
                  <a:pt x="110" y="528"/>
                  <a:pt x="209" y="658"/>
                  <a:pt x="122" y="588"/>
                </a:cubicBezTo>
                <a:cubicBezTo>
                  <a:pt x="43" y="525"/>
                  <a:pt x="154" y="569"/>
                  <a:pt x="61" y="539"/>
                </a:cubicBezTo>
                <a:cubicBezTo>
                  <a:pt x="57" y="527"/>
                  <a:pt x="58" y="511"/>
                  <a:pt x="49" y="502"/>
                </a:cubicBezTo>
                <a:cubicBezTo>
                  <a:pt x="36" y="489"/>
                  <a:pt x="13" y="491"/>
                  <a:pt x="0" y="478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7880" y="3483000"/>
            <a:ext cx="5719680" cy="2679840"/>
          </a:xfrm>
          <a:custGeom>
            <a:avLst/>
            <a:gdLst/>
            <a:ahLst/>
            <a:rect l="l" t="t" r="r" b="b"/>
            <a:pathLst>
              <a:path w="3603" h="1688">
                <a:moveTo>
                  <a:pt x="3603" y="0"/>
                </a:moveTo>
                <a:cubicBezTo>
                  <a:pt x="3590" y="79"/>
                  <a:pt x="3597" y="126"/>
                  <a:pt x="3530" y="171"/>
                </a:cubicBezTo>
                <a:cubicBezTo>
                  <a:pt x="3483" y="240"/>
                  <a:pt x="3532" y="185"/>
                  <a:pt x="3468" y="220"/>
                </a:cubicBezTo>
                <a:cubicBezTo>
                  <a:pt x="3384" y="267"/>
                  <a:pt x="3332" y="306"/>
                  <a:pt x="3236" y="331"/>
                </a:cubicBezTo>
                <a:cubicBezTo>
                  <a:pt x="3211" y="347"/>
                  <a:pt x="3171" y="352"/>
                  <a:pt x="3162" y="380"/>
                </a:cubicBezTo>
                <a:cubicBezTo>
                  <a:pt x="3142" y="440"/>
                  <a:pt x="3102" y="523"/>
                  <a:pt x="3039" y="551"/>
                </a:cubicBezTo>
                <a:cubicBezTo>
                  <a:pt x="2978" y="578"/>
                  <a:pt x="2906" y="591"/>
                  <a:pt x="2843" y="612"/>
                </a:cubicBezTo>
                <a:cubicBezTo>
                  <a:pt x="2803" y="625"/>
                  <a:pt x="2733" y="674"/>
                  <a:pt x="2733" y="674"/>
                </a:cubicBezTo>
                <a:cubicBezTo>
                  <a:pt x="2700" y="724"/>
                  <a:pt x="2676" y="780"/>
                  <a:pt x="2635" y="821"/>
                </a:cubicBezTo>
                <a:cubicBezTo>
                  <a:pt x="2606" y="908"/>
                  <a:pt x="2625" y="873"/>
                  <a:pt x="2586" y="931"/>
                </a:cubicBezTo>
                <a:cubicBezTo>
                  <a:pt x="2557" y="1021"/>
                  <a:pt x="2566" y="1112"/>
                  <a:pt x="2537" y="1201"/>
                </a:cubicBezTo>
                <a:cubicBezTo>
                  <a:pt x="2545" y="1225"/>
                  <a:pt x="2567" y="1249"/>
                  <a:pt x="2562" y="1274"/>
                </a:cubicBezTo>
                <a:cubicBezTo>
                  <a:pt x="2531" y="1424"/>
                  <a:pt x="2571" y="1268"/>
                  <a:pt x="2525" y="1372"/>
                </a:cubicBezTo>
                <a:cubicBezTo>
                  <a:pt x="2486" y="1460"/>
                  <a:pt x="2512" y="1450"/>
                  <a:pt x="2427" y="1507"/>
                </a:cubicBezTo>
                <a:cubicBezTo>
                  <a:pt x="2381" y="1638"/>
                  <a:pt x="2289" y="1653"/>
                  <a:pt x="2169" y="1666"/>
                </a:cubicBezTo>
                <a:cubicBezTo>
                  <a:pt x="2107" y="1688"/>
                  <a:pt x="2048" y="1669"/>
                  <a:pt x="1986" y="1654"/>
                </a:cubicBezTo>
                <a:cubicBezTo>
                  <a:pt x="1903" y="1681"/>
                  <a:pt x="1842" y="1637"/>
                  <a:pt x="1765" y="1617"/>
                </a:cubicBezTo>
                <a:cubicBezTo>
                  <a:pt x="1718" y="1587"/>
                  <a:pt x="1719" y="1561"/>
                  <a:pt x="1667" y="1544"/>
                </a:cubicBezTo>
                <a:cubicBezTo>
                  <a:pt x="1526" y="1451"/>
                  <a:pt x="1364" y="1346"/>
                  <a:pt x="1189" y="1336"/>
                </a:cubicBezTo>
                <a:cubicBezTo>
                  <a:pt x="993" y="1324"/>
                  <a:pt x="601" y="1311"/>
                  <a:pt x="601" y="1311"/>
                </a:cubicBezTo>
                <a:cubicBezTo>
                  <a:pt x="454" y="1297"/>
                  <a:pt x="305" y="1274"/>
                  <a:pt x="159" y="1250"/>
                </a:cubicBezTo>
                <a:cubicBezTo>
                  <a:pt x="115" y="1234"/>
                  <a:pt x="25" y="1213"/>
                  <a:pt x="25" y="1213"/>
                </a:cubicBezTo>
                <a:cubicBezTo>
                  <a:pt x="21" y="1201"/>
                  <a:pt x="15" y="1189"/>
                  <a:pt x="12" y="1176"/>
                </a:cubicBezTo>
                <a:cubicBezTo>
                  <a:pt x="6" y="1148"/>
                  <a:pt x="0" y="1090"/>
                  <a:pt x="0" y="1090"/>
                </a:cubicBezTo>
              </a:path>
            </a:pathLst>
          </a:custGeom>
          <a:noFill/>
          <a:ln w="572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2060640"/>
            <a:ext cx="360360" cy="358560"/>
          </a:xfrm>
          <a:custGeom>
            <a:avLst/>
            <a:gdLst>
              <a:gd name="textAreaLeft" fmla="*/ 124560 w 360360"/>
              <a:gd name="textAreaRight" fmla="*/ 235800 w 360360"/>
              <a:gd name="textAreaTop" fmla="*/ 123840 h 358560"/>
              <a:gd name="textAreaBottom" fmla="*/ 2347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33" y="12564"/>
                </a:lnTo>
                <a:lnTo>
                  <a:pt x="3163" y="18437"/>
                </a:lnTo>
                <a:lnTo>
                  <a:pt x="8960" y="15136"/>
                </a:lnTo>
                <a:lnTo>
                  <a:pt x="10800" y="21600"/>
                </a:lnTo>
                <a:lnTo>
                  <a:pt x="12564" y="15167"/>
                </a:lnTo>
                <a:lnTo>
                  <a:pt x="18437" y="18437"/>
                </a:lnTo>
                <a:lnTo>
                  <a:pt x="15136" y="12640"/>
                </a:lnTo>
                <a:lnTo>
                  <a:pt x="21600" y="10800"/>
                </a:lnTo>
                <a:lnTo>
                  <a:pt x="15167" y="9036"/>
                </a:lnTo>
                <a:lnTo>
                  <a:pt x="18437" y="3163"/>
                </a:lnTo>
                <a:lnTo>
                  <a:pt x="12640" y="6464"/>
                </a:lnTo>
                <a:lnTo>
                  <a:pt x="10800" y="0"/>
                </a:lnTo>
                <a:lnTo>
                  <a:pt x="9036" y="6433"/>
                </a:lnTo>
                <a:lnTo>
                  <a:pt x="3163" y="3163"/>
                </a:lnTo>
                <a:lnTo>
                  <a:pt x="6464" y="896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2708280"/>
            <a:ext cx="360360" cy="358920"/>
          </a:xfrm>
          <a:custGeom>
            <a:avLst/>
            <a:gdLst>
              <a:gd name="textAreaLeft" fmla="*/ 124560 w 360360"/>
              <a:gd name="textAreaRight" fmla="*/ 235800 w 360360"/>
              <a:gd name="textAreaTop" fmla="*/ 124200 h 358920"/>
              <a:gd name="textAreaBottom" fmla="*/ 23472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33" y="12564"/>
                </a:lnTo>
                <a:lnTo>
                  <a:pt x="3163" y="18437"/>
                </a:lnTo>
                <a:lnTo>
                  <a:pt x="8960" y="15136"/>
                </a:lnTo>
                <a:lnTo>
                  <a:pt x="10800" y="21600"/>
                </a:lnTo>
                <a:lnTo>
                  <a:pt x="12564" y="15167"/>
                </a:lnTo>
                <a:lnTo>
                  <a:pt x="18437" y="18437"/>
                </a:lnTo>
                <a:lnTo>
                  <a:pt x="15136" y="12640"/>
                </a:lnTo>
                <a:lnTo>
                  <a:pt x="21600" y="10800"/>
                </a:lnTo>
                <a:lnTo>
                  <a:pt x="15167" y="9036"/>
                </a:lnTo>
                <a:lnTo>
                  <a:pt x="18437" y="3163"/>
                </a:lnTo>
                <a:lnTo>
                  <a:pt x="12640" y="6464"/>
                </a:lnTo>
                <a:lnTo>
                  <a:pt x="10800" y="0"/>
                </a:lnTo>
                <a:lnTo>
                  <a:pt x="9036" y="6433"/>
                </a:lnTo>
                <a:lnTo>
                  <a:pt x="3163" y="3163"/>
                </a:lnTo>
                <a:lnTo>
                  <a:pt x="6464" y="896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1066680"/>
            <a:ext cx="3352680" cy="1676520"/>
            <a:chOff x="0" y="1066680"/>
            <a:chExt cx="3352680" cy="1676520"/>
          </a:xfrm>
        </p:grpSpPr>
        <p:sp>
          <p:nvSpPr>
            <p:cNvPr id="97" name=""/>
            <p:cNvSpPr/>
            <p:nvPr/>
          </p:nvSpPr>
          <p:spPr>
            <a:xfrm>
              <a:off x="0" y="106668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Times New Roman"/>
                </a:rPr>
                <a:t>اقترح كعب الأحبار بناء الجامع في هذا الموق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81080" y="1600200"/>
              <a:ext cx="1371600" cy="1143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038480" y="806400"/>
            <a:ext cx="1981440" cy="1251000"/>
            <a:chOff x="4038480" y="806400"/>
            <a:chExt cx="1981440" cy="1251000"/>
          </a:xfrm>
        </p:grpSpPr>
        <p:sp>
          <p:nvSpPr>
            <p:cNvPr id="100" name=""/>
            <p:cNvSpPr/>
            <p:nvPr/>
          </p:nvSpPr>
          <p:spPr>
            <a:xfrm flipH="1">
              <a:off x="4419360" y="1219320"/>
              <a:ext cx="228600" cy="838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38480" y="80640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Times New Roman"/>
                </a:rPr>
                <a:t>تم بناء الجامع في هذا المكا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553080" y="37479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باب الخلي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5029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باب العمو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381520" y="5181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548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7:13:50Z</dcterms:created>
  <dc:creator>Abdallah Marouf</dc:creator>
  <dc:description/>
  <dc:language>en-US</dc:language>
  <cp:lastModifiedBy>Abdallah Marouf</cp:lastModifiedBy>
  <dcterms:modified xsi:type="dcterms:W3CDTF">2004-01-03T18:19:57Z</dcterms:modified>
  <cp:revision>41</cp:revision>
  <dc:subject/>
  <dc:title>عرض تقديمي من PowerPoint</dc:title>
</cp:coreProperties>
</file>